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jpeg" ContentType="image/jpeg"/>
  <Override PartName="/ppt/media/image6.png" ContentType="image/png"/>
  <Override PartName="/ppt/media/image7.jpeg" ContentType="image/jpeg"/>
  <Override PartName="/ppt/media/image13.png" ContentType="image/png"/>
  <Override PartName="/ppt/media/image10.gif" ContentType="image/gif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2.gif" ContentType="image/gif"/>
  <Override PartName="/ppt/media/image8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D1CB-E632-4BFB-8C18-3C5F2985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27F-B980-4BF9-ABFD-CA2946A9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0FA-3175-4101-A523-704B789E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56E5-90C7-4C45-B2E0-38B40987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BC5C-9EF8-407D-9061-3BA74D63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665-0859-4471-9B35-04296BCC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6BE2-C106-4B23-AAF9-80B711B2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F8A-4942-4F51-8EC8-1D016928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880-B93F-4592-AE19-B2902D1E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4FB-2433-4F9F-BEE0-622F907F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3E0-458F-4A90-8D4E-7710E436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146-BA01-4AAF-9BEF-B1E69B9E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E414-F4EF-4851-8572-2409B88F3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ki.yandex.ru/users/iss1960/view/248490/?page=3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evivi.ru/best/images/referat/80472-9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28036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Площадь криволинейной трапеци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ти площадь фигуры, ограниченной лин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258920" y="2492280"/>
                <a:ext cx="26654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∗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364000" y="2637000"/>
                <a:ext cx="23767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835280" y="1484280"/>
            <a:ext cx="50670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0256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тематическая модель для ЭВМ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тод Монте-Карл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934320" y="4114800"/>
            <a:ext cx="1976400" cy="1990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26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981000"/>
            <a:ext cx="3024360" cy="280836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542412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едложите, как с помощью этих предметов вычислить площадь круга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476280"/>
            <a:ext cx="3249720" cy="2287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364000" y="2997360"/>
            <a:ext cx="316872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местим данную фигуру в квадрат. Будем наугад бросать монеты в этот квадрат. Чем больше площадь фигуры, тем чаще в неё будут попадать монет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789360"/>
            <a:ext cx="9144000" cy="1440000"/>
          </a:xfrm>
          <a:prstGeom prst="rect">
            <a:avLst/>
          </a:prstGeom>
          <a:solidFill>
            <a:srgbClr val="fffff7"/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84280"/>
            <a:ext cx="9144000" cy="1440000"/>
          </a:xfrm>
          <a:prstGeom prst="rect">
            <a:avLst/>
          </a:prstGeom>
          <a:solidFill>
            <a:srgbClr val="fffff7"/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га                 Кол-во монет в круг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вадрата           Кол-во монет в квадрат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1337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2133720"/>
            <a:ext cx="46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1773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076640"/>
            <a:ext cx="270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га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68360" y="3860640"/>
            <a:ext cx="68756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вадрата * Кол-во монет в круг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-во монет в квадрат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11280" y="4437000"/>
            <a:ext cx="640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249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я моделирования случайных явлений очень стара, она восходит ко временам Древнего Вавилона и Ветхого Зав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этот метод назвали Монте-Карл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нт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рл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европейская столица игорного бизнеса, а значит, там владычествует Его Величество Случа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5428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мпьютерный экспери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82756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мпьютерный экспери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136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71640" y="4005360"/>
            <a:ext cx="1981080" cy="1695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ffffd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6156360" y="1484280"/>
            <a:ext cx="2362320" cy="1495440"/>
          </a:xfrm>
          <a:custGeom>
            <a:avLst/>
            <a:gdLst>
              <a:gd name="textAreaLeft" fmla="*/ 519480 w 2362320"/>
              <a:gd name="textAreaRight" fmla="*/ 1842840 w 2362320"/>
              <a:gd name="textAreaTop" fmla="*/ 328680 h 1495440"/>
              <a:gd name="textAreaBottom" fmla="*/ 1166760 h 14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9df7d"/>
              </a:gs>
              <a:gs pos="100000">
                <a:srgbClr val="d99475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3500280"/>
            <a:ext cx="3581640" cy="2667240"/>
          </a:xfrm>
          <a:prstGeom prst="star5">
            <a:avLst/>
          </a:prstGeom>
          <a:solidFill>
            <a:srgbClr val="f2e9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740720" y="3500280"/>
            <a:ext cx="542880" cy="723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1341360"/>
            <a:ext cx="1728720" cy="172728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ffd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1413000"/>
            <a:ext cx="1800000" cy="1800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2492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 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1337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2492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=(a+b)H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5229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=ah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71640" y="1413000"/>
            <a:ext cx="3529080" cy="3460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71640" y="1916280"/>
            <a:ext cx="3529080" cy="2665080"/>
          </a:xfrm>
          <a:prstGeom prst="hexagon">
            <a:avLst>
              <a:gd name="adj" fmla="val 33105"/>
              <a:gd name="vf" fmla="val 115470"/>
            </a:avLst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013360"/>
            <a:ext cx="79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фигуру накладывается палетка и подсчитывается количество квадратиков, попавших в фиг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6028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ическая 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пировать фигуру на картон, вырезать е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звесить фигуру и единичный квадрат из этого же карт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елить вес фигуры на вес единичного квад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0160" y="2048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тематическая модель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лощадь криволинейной трапе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Картинка 78 из 5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2205000"/>
            <a:ext cx="7272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тематическая модель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лощадь криволинейной трапе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4608360" cy="2664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835280" y="4508640"/>
            <a:ext cx="5543280" cy="1225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7640" y="573408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ула Ньютона-Лейб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260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альное исчисление было предложено в 17 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.Ньютоном и Г. Лейбниц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172360" y="404640"/>
            <a:ext cx="542880" cy="723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87280" y="2421000"/>
            <a:ext cx="2857680" cy="392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076720" y="2349360"/>
            <a:ext cx="31561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грирование – нахождение интеграла, через который выражаются площади плоских фигур, длины кривых, объемы и поверхности тел и т.д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м знак  возник из первой буквы S латинского слова Summ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172360" y="404640"/>
            <a:ext cx="542880" cy="723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771640" y="3860640"/>
                <a:ext cx="716040" cy="17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был введён немецким математиком Готфридом Лейбницем в 1686 году. Существует версия о том, что он букву S , используемую для обозначения суммы писал слегка удлинённой. Так постепенно и родился новый символ. Термин интеграл (от латинского integer – целый) был предложен в 1696 году учеником Лейбница – Иоганном Бернулли. Лейбниц, хотя и неохотно согласился с эт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172360" y="404640"/>
            <a:ext cx="5428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2:19:40Z</dcterms:created>
  <dc:creator>Владимир</dc:creator>
  <dc:description/>
  <dc:language>en-US</dc:language>
  <cp:lastModifiedBy>ОЛЯ</cp:lastModifiedBy>
  <dcterms:modified xsi:type="dcterms:W3CDTF">2011-11-27T05:26:41Z</dcterms:modified>
  <cp:revision>52</cp:revision>
  <dc:subject/>
  <dc:title>Тема урока: Вероятностные модели.  Метод Монте-Карло </dc:title>
</cp:coreProperties>
</file>